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B648-5564-4192-A7C4-9EE5294FF1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D23A-BF45-4432-ABB0-A7BC93DB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89E3-DDEC-4A34-B1B8-7C92B519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4127-A3F9-45EE-9DAB-10EFB604C7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B831-1F93-437B-9ABC-D98E1CE1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8546-DAEC-4C70-AE52-C3C7F3F6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D67AF-479A-4635-8EC9-E8902421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740F-816C-4E6B-9DC8-BFD99DD4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D7886-6F8D-43A3-ABA6-C5EA2BA9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3786-F5C7-47EB-8369-01489C48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8A39D-C469-4827-AD99-8997A82F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3B7AF-5180-48A7-BD67-1A2A1DC3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74E-4AC9-461B-9A3D-8A900FBCD8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276640"/>
            <a:ext cx="75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白细胞总数及中性白细胞比例增高。部分患者有血清转氨酶、血清胆红素、血清淀粉酶的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最常用的诊断手段，可显示胆囊肿大，壁厚，并可发现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龄、性质、家族史、既往史、饮食习惯、手术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疾病相关的因素包括经常摄入高糖、高胆固醇、高脂肪饮食；患有胆道寄生虫病；肥胖；遗传；严重创伤后、烧伤、大手术后、危重患者、长时间完全胃肠外营养支持；手术，如迷走神经切断术，破坏了胆囊的排空功能；小肠远端广泛切除术，引起胆盐的肝肠循环障碍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囊炎后症状轻者先用非手术治疗，既能控制炎症，也可作为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具体方法包括休息、禁食、胃肠减压、输液、解痉止痛，使用广谱抗菌药物、维生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止血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造瘘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cystos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囊切除、胆总管探查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胆囊炎、胆囊结石。因怀疑有胆总管结石，行胆囊切除、胆总管探查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引流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术后如何进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的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管梗阻、胆囊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胆汁性腹膜炎、出血、胆瘘、黄疸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常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通畅、有效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记录胆汁的量及性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胆道感染、胆石症的相关因素、常用的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胆道感染、胆石症的典型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胆囊炎与胆囊结石之间的关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管引流的意义及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五联征的临床意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胆道感染、胆石症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观察与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忌食高胆固醇、高脂肪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坚持服用利胆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居要有规律，不要过度劳累，保持心情舒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出院的患者，应指导患者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的固定和自我护理。注意保护局部、避免提取重物、过度活动，以防脱落。每日定时倒液并记录。定时换药，避免感染。注意保护局部皮肤。沐浴时避免水进入伤口。出现引流管脱出、无液体引出或引流物异常时应及时就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是再次出现腹痛、黄疸、消化不良等情况，要立即去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ronic cholecy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与急性胆囊炎是同一疾病的不同阶段表现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上合并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史中有急性胆囊炎的症状反复发作。平时症状不明显，可有右上腹发胀、隐痛、反酸、厌油等“消化不良”的症状，常被误认为“胃病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胆囊区可有轻压痛和不适感，无其他阳性体征。少数患者可触及肿大的胆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是否有反复发作的胆囊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一旦明确，应手术治疗。可行开腹胆囊切除术或腹腔镜胆囊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cholecyst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年迈、体衰并有全身严重器质性病变者可采用非手术治疗，包括限制高脂肪食物，服用胆汁酸和利胆药物，中西医结合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囊慢性炎症和胆结石刺激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碳酸血症、酸中毒、出血、胆瘘、胆道损伤、肠穿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道感染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fection of biliary tra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胆石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ole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胆道系统最重要最常见的疾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形成的原因十分复杂，是多种因素综合作用的结果，主要包括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慢性胆囊炎、胆结石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管结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oledocholithia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分肝外胆管结石及肝内胆管结石两种。肝外胆管结石可原发于胆总管或继发于肝内胆管或来源于胆囊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发病主要是梗阻基础上继发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胆道梗阻未能及时得到解除，胆道感染未能控制，病情可进一步发展，成为急性梗阻性化脓性胆管炎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cute obstructive suppurative  cholangit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OS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剧烈腹痛伴畏寒发热，巩膜黄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入院。发病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曾进油腻食物，引起右上腹不适，夜间剧痛，恶心呕吐，畏寒发热，尿呈浓茶色，当地医院检查发现血压偏低，精神差，转来本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神志淡漠，回答不清，巩膜黄染，右上腹压痛、反跳痛明显，胆囊摸不清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9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尿胆红素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寒战、高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雷诺）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神经中枢系统受抑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皮肝穿刺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ercutaneous transhepatic cholangiography, PT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、经内镜逆行胰胆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ndoscopic retrograde cholangiopancreatography, E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磁共振胆胰管造影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C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可显示胆道阻塞的部位及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的年龄、性质、家族史、既往史、饮食习惯、手术史等，了解患者发病的相关因素，发作的胆管炎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0720" indent="-27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最常用的手术方法是胆总管探查或切开取石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0844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内胆管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溶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机械排石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51960" indent="-2214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西医结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640" y="304560"/>
            <a:ext cx="880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石有三种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固醇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胆色素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混合性结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胆石主要分布在胆囊、肝外胆管和肝内胆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梗阻性化脓性胆管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紧急手术解除胆道梗阻并减压引流。手术前应积极防治休克，纠正水、电解质和酸碱平衡紊乱，给予有效足量的抗生素、肾上腺皮质激素、维生素，及时使用多巴胺等血管活性药物，防治急性呼吸衰竭和肾衰竭等。手术以切开减压并引流胆管、挽救生命为主要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2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急性梗阻性化脓性胆管炎、胆管结石，拟行手术切开胆道解除梗阻、引流胆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手术前护士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胆管梗阻、炎症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恶心、呕吐及感染性休克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感染胆道系统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脓毒症、感染性休克和多脏器功能衰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 急性胆管炎、胆管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处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神志、生命体征、腹部体征变化的监护，发现脓毒症、感染性休克和多脏器功能衰竭等异常情况要及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措施参见本章第一节急性胆囊炎、胆囊结石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原因是胆囊管梗阻和致病菌入侵。梗阻主要由胆囊结石引起，蛔虫、扭转和狭窄等也可引起。致病菌主要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食油腻后引发的右上腹疼痛伴有肩背部放射痛，墨菲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轻者先用非手术治疗，非手术治疗效果不好时考虑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应加强心理支持，减轻或有效缓解疼痛，改善营养状况。术后做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引流护理，加强并发症的预防和护理。指导出院患者注意饮食不要过于油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慢性胆囊炎、胆囊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因急性胆囊炎迁延不愈反复发作导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平时症状不明显，可有右上腹发胀、隐痛、反酸、厌油等“消化不良”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旦诊断明确，应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腹腔镜胆囊切除术前应做好心理护理、饮食调整和备皮。术后护理重点是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胆管梗阻基础上继发感染导致，致病菌多为大肠杆菌等革兰阴性杆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、寒战与高热、黄疸是结石阻塞胆总管继发感染的典型表现，合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arco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联征。在此基础上又出现休克、中枢神经系统受抑制表现，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eynold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五联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管炎、胆管结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外胆管结石和肝内胆管结石采取以手术为主的综合治疗，急性梗阻性化脓性胆管炎应紧急手术解除胆道梗阻并减压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注意病情观察，对症护理，做好术前准备。术后加强并发症的预防和护理。指导出院患者保持健康饮食和良好的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五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胆道感染、胆石症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27" descr="说明: 22-2"/>
          <p:cNvPicPr/>
          <p:nvPr/>
        </p:nvPicPr>
        <p:blipFill>
          <a:blip r:embed="rId1"/>
          <a:stretch/>
        </p:blipFill>
        <p:spPr>
          <a:xfrm>
            <a:off x="2138400" y="1125360"/>
            <a:ext cx="4819680" cy="4896000"/>
          </a:xfrm>
          <a:prstGeom prst="rect">
            <a:avLst/>
          </a:prstGeom>
          <a:ln w="0">
            <a:noFill/>
          </a:ln>
        </p:spPr>
      </p:pic>
      <p:sp>
        <p:nvSpPr>
          <p:cNvPr id="117" name="矩形 4"/>
          <p:cNvSpPr/>
          <p:nvPr/>
        </p:nvSpPr>
        <p:spPr>
          <a:xfrm>
            <a:off x="3790080" y="609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胆石的分布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、胆囊结石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cholecystitis and cholecystolithia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临床常见病，多见于女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起胆囊炎的原因是胆囊管梗阻和致病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胆囊炎可有急性单纯性胆囊炎、急性化脓性胆囊炎、急性坏疽性胆囊炎等不同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5-1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进食后突发右上腹胀痛，伴恶心呕吐，呕吐物为胃内容物，无畏寒发热。门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提示胆囊结石、胆囊炎。自述发病以来，精神可，食纳可，睡眠可，大小便正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3/87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神清，精神差，痛苦面容，自主体位。腹平，右上腹有明显压痛、反跳痛，无肌紧张。肝脾肋下未及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肝区叩击痛阴性，移动性浊音阴性，肠鸣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肾区无叩击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9.8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急性胆囊炎、胆囊结石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黄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上腹部压痛和肌紧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ur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阳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8:13Z</dcterms:modified>
  <cp:revision>116</cp:revision>
  <dc:subject/>
  <dc:title>内科护理学</dc:title>
</cp:coreProperties>
</file>